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3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4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1DCE-C22C-4C95-A28E-293689D217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914400" y="4361040"/>
            <a:ext cx="5029200" cy="41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:30 This section lasts about 30 minu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6840" y="36936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2000" y="10666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6840" y="36936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52000" y="36936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0760" y="106668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4680" y="106668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6840" y="36936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90760" y="36936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24680" y="3693600"/>
            <a:ext cx="26985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52000" y="106668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6840" y="0"/>
            <a:ext cx="83818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52000" y="106668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6840" y="36936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090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52000" y="10666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52000" y="369360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52000" y="1066680"/>
            <a:ext cx="40903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3693600"/>
            <a:ext cx="838188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1828800" y="6248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© 2005, 2006 Ballard Spahr Andrews &amp; Ingersoll, LL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topix.net/" TargetMode="External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virtualchase.com/cas/" TargetMode="External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my.bloglines.com/myblogs" TargetMode="External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Tracking and Delivering Current Information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00"/>
                </a:solidFill>
                <a:latin typeface="Verdana"/>
              </a:rPr>
              <a:t>What Are the Option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Content Provided by Feeds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ditional news med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b site, Blog updat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de articles and citation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ee and commerci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-Journal Conten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niversity of Saskatchewan Libra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DGAR filin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udio and video (podcasting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re on sources in Stage Two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Podcasting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udio or video content delivered via R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P3 fi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any MP3-compatible player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Quickti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indows Media Play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ample from SearchEngineWat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blog.searchenginewatch.com/blog/podcast.htm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763720" y="865080"/>
            <a:ext cx="36165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Stage One: Planning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Verdana"/>
              </a:rPr>
              <a:t>Why Offer a Current Awareness Service?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motes you and your organiz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ives you marketable skil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ssociates you (or your organization) with new in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uilds your bran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ight establish you as an exper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rces you to stay curr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What Are the E-Delivery Options?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4113360" cy="50292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725720" y="1066680"/>
            <a:ext cx="4113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-mail newslet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b-based or intranet newslet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SS/XML news feed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blog, K-log, Wik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or mobile u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dcast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Hi-Tech Skills Required?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always high-te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hare your knowledge (presentations, telephone calls, face-to-face conversations, e-mai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pport a team that has a “techie”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logging with, or without, an RSS fe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lf-managed e-mail distribution (&gt;100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an e-mail publishing service or mailing list host (FreePint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Some Technical Skill Required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190760" y="1066680"/>
            <a:ext cx="46479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-mail distribution by Listserv® or other mailing list management softw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b-based or intranet newslet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SS/XML news feed not created automatically with blogging softw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bile devi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dcast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1752480"/>
            <a:ext cx="4113360" cy="36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Human Skills?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anning the ser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inding, selecting and organizing cont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riting summaries or commenta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signing the ser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How will it look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dvertising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peaking (podcasting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ouble-shoot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viding customer ser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What to Plan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al or purpose of the ser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rget audi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me and resources to comm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blication frequency, size and cont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tle (branding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ating or issue numbering schem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ertis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ain or major sour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rategies for gathering new inform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livery options (equipment, softwar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Presenter Information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ie Tybursk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b Manager, The Virtual Cha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allard Spahr Andrews &amp; Ingersoll, LLP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M: editor_882@virtualchase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ary Pri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sultant, ResourceShelf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M: gary@resourceshelf.co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Avoiding Information Overload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lan, plan, plan before launch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t limits on time and sourc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ow your goals and stick to them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-evaluate goals regular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member your target audienc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now you can’t do it al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t organized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eep to a routin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Getting Organized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4113360" cy="5029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1640" y="129492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-ma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ilters, separate accounts, disposab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elete upon ac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ganize, save regular sour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Web monitor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se aggregato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ake advantage of R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Keeping to a Routine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13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rastination means more work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eak in routine means more stress!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volve oth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tay focus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4726080" y="1282680"/>
            <a:ext cx="4113000" cy="45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763720" y="865080"/>
            <a:ext cx="36165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Stage Two: Identifying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Sources of Current Information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ditional news med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ade and industry journa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s releas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blogs and discussion forum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eopl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er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dia contac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our target audi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Finding Press Releases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overnment Policy Newslinks (fee-based current awareness service; e-mail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.S. Newswire (government p.r.; RS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 Newswire (RSS; commercial monitoring tool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ewsNow (U.K.; fee-based RS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2"/>
              </a:rPr>
              <a:t>Topix.net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(e-mail, RS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ahoo News (e-mail, RS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Blogs, Forums as Sources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imely; often good for breaking new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y offer expert analys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ually not objectiv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ually not original news report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umors spread quick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ts of redundancy and cross-linking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Caution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: Be selective. Information overload ahe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Finding Weblogs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eneral Web search engin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yword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intitle:blo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yword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inurl:blo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"trademark law" (intitle:blog | inurl:blog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QuackTrack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aypop, WayPath, Technorati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edster (blogs with RSS feed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Finding RSS Feeds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4108320" cy="50292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730760" y="1066680"/>
            <a:ext cx="4108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ook for the orange icon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ahoo search resul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2RSS.com, Bloglines directo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SS News Feeds for Law (The Virtual Chase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vernment Feeds (FirstGov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019920" y="1600200"/>
            <a:ext cx="411120" cy="16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Current Awareness Web Site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ttp://www.virtualchase.com/c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in: vchc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wd: c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763720" y="865080"/>
            <a:ext cx="36165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Stage Three: Gathering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 Gathering Strategies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dentify relevant sources (e-mail alerts/RS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mary sour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riginal report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xpert analysi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nitor changes to relevant Web pag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Use news aggregat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eep up with professional literatur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Verdana"/>
              </a:rPr>
              <a:t>More</a:t>
            </a: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 Gathering Strategies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un saved search queries regular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nitor listservs or Usenet group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ight be highly act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ck out the digest vers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ogle Groups summary edi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Join social networks, mayb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of the above = information overload!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It's Not All Online!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724280" y="10666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metimes print comes out fir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fessional literatu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imary sourc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overnmen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pecial interest group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xperts and other people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57200" y="1751040"/>
            <a:ext cx="4114800" cy="36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News Aggregators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dition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xisNexi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ctiva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Dialog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 med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Topix.net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Yahoo New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Google New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284472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Traditional vs. New Media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ditiona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pports complex que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ore delivery frequency option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Established sour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ccurate infor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lower load times for new articl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low adoption of new technologies (RSS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24280" y="10666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ew Media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upports simple queri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ster delivery of information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aster adoption of new technology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Mix established and newer sour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ess accurate new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Fewer delivery frequency choi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Web Page Tracking Tools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bsite-Watch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ackEngin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atchThatPage (free with qualification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nitoring Web Page Chang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nnotated list by RBA Information Service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724280" y="1994040"/>
            <a:ext cx="4114800" cy="31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What to Monitor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nouncements (What's New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ess releases (companies, interest groups, government agencie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aved search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source lis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elevant, high quality Weblog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y Web page with a unique addr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Gathering by E-mail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mmary or digest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Keyword-generated updat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oogle New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Yahoo New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Ne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lters help organiz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posable addresses help we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lete when spamm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D source of spam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What We Will Cover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19720" y="1294920"/>
            <a:ext cx="4495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lanning a current awareness servi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dentifying sources of current inform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Gathering current inform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livering current informa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012680" y="1066680"/>
            <a:ext cx="299880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Gathering by RSS – Pros 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ast, updated hourl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asy to skim; ignore what you don’t wa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ts of repeti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uncated inform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uch less spam than e-mai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Gathering by RSS – Cons 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ts of repeti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e whole fe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eyword filters still a minor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uncated vs. full-tex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ormation overloa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Information myop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ivacy issues?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tential for tracking users via cooki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Keyword Feeds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08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estlaw Watch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oreover (ad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opix.n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Yahoo New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ocketNew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30760" y="1066680"/>
            <a:ext cx="4108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ubM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ubM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okSmart FindArticl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DGAR Index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rend, but not widely available ye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Moreover DIY Keyword Feeds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57200" y="1066680"/>
            <a:ext cx="4108320" cy="5029200"/>
          </a:xfrm>
          <a:prstGeom prst="rect">
            <a:avLst/>
          </a:prstGeom>
          <a:ln w="0">
            <a:noFill/>
          </a:ln>
        </p:spPr>
      </p:pic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19360" y="1447560"/>
            <a:ext cx="4724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p.moreover.com/cgi-local/page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k=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keyword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&amp;o=r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%20 separates words in a phrase (k=Rite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%20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id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+ searches 2 or more words (k=legal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search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2763720" y="865080"/>
            <a:ext cx="36165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382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Verdana"/>
              </a:rPr>
              <a:t>Stage Four: Delivering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Delivery Options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One-way email distribu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ML (e-mail, Web site, intranet) newslett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blog, k-log or wik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SS, podcas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bination of the abo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05440" y="1066680"/>
            <a:ext cx="35528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E-mail Distribution – Pros 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sy to creat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reate a professional loo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Deliver in different forma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ush technolo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ol who receives &amp; sends 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sumers prefer 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n archive i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772160" y="1066680"/>
            <a:ext cx="4017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E-mail Distribution – Cons 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24280" y="10666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atibility between client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ight control requires softwar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oftware requires technical skill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Interference from spam filt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ounced mai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rchives difficult to search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1522440"/>
            <a:ext cx="41148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HTML Newsletters – Pros 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fessional appeara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lexible formats (print, monitor or wireless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Larger potential audienc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archable archiv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arch engine acc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4772160" y="1066680"/>
            <a:ext cx="4017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Terms to Understand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13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blog, blog, Wiki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SS (Really Simple Syndication), XM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ggregator (</a:t>
            </a:r>
            <a:r>
              <a:rPr b="0" i="1" lang="en-US" sz="2800" spc="-1" strike="noStrike">
                <a:solidFill>
                  <a:srgbClr val="ffffff"/>
                </a:solidFill>
                <a:latin typeface="Verdana"/>
              </a:rPr>
              <a:t>aka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“reader”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odcast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575320" y="1066680"/>
            <a:ext cx="241308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HTML Newsletters – Cons 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724280" y="10666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re 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ore expensiv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quires HTML know-how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dvanced technical skill (JavaScript, CSS, XML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Troubleshooting necessa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a push technolo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457200" y="1522440"/>
            <a:ext cx="41148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Weblogs and Wikis – Pros 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Easy to use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Updating frequenc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heduled automatic updating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tive communit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arch engine acces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772160" y="1066680"/>
            <a:ext cx="401796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Weblogs and Wikis – Cons 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24280" y="10666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petition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t push technolog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dundancy (little original reporting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requent updates expect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57200" y="1522440"/>
            <a:ext cx="4114800" cy="41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RSS News Feeds – Pros 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pt-in technolog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ttracts certain us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ittle spam (for now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otential for aggregation and syndic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reate topical channel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metimes auto-generated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arch engine acces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RSS News Feeds – Cons 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ubscribers have to find i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nonymity of subscribe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ftware install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All or nothing 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ew free edit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Hand-coding requires XML know-how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any format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No archive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Meaningless usage statistic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RSS Validators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4114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heck RSS coding for erro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eed Validator (feedvalidator.org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cripting News RSS Validator (rss.scripting.com)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724280" y="1125360"/>
            <a:ext cx="4114800" cy="491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763720" y="865080"/>
            <a:ext cx="3616560" cy="512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Find This Presentation At …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00"/>
                </a:solidFill>
                <a:uFillTx/>
                <a:latin typeface="Verdana"/>
                <a:hlinkClick r:id="rId2"/>
              </a:rPr>
              <a:t>http://www.virtualchase.com/cas/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Login: vchc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assword: c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Resources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ikipedia (slide 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ww.wikipedia.or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Bloglines (slide 9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ww.bloglines.c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y Yahoo (slide 9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y.yahoo.c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-Journals (slide 10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ibrary.usask.ca/ejournals/rss_feeds.php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W SearchCast (slide 11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http://blog.searchenginewatch.com/blog/podcast.htm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vernment Policy Newslinks (slide 26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olicynewslinks.c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sNow (slide 26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ww.newsnow.co.uk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Resources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opix.net (slide 26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ww.topix.ne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ackTrack (slide 28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quacktrack.c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echnorati (slide 28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ttp://www.technorati.c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Yahoo Search (slide 29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arch.yahoo.c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RSS.com (slide 29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2rss.c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RSS News Feeds for Law (slide 29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ww.virtualchase.com/resources/rss_law.htm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rstGov Feed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ttp://www.firstgov.gov/Topics/Reference_Shelf/Libraries/RSS_Library.shtm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Blogs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ocial versus technical defini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mmentary, usually in reverse chronological order –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socia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Web site created with blogging software – </a:t>
            </a: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technical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Blog software or service (Blogger, Radio Userland, Bloglines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No HTML requir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Professional or personal (opin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One or more commentator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Resources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ebsite-Watcher (slide 3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ww.aignes.c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rackEngine (slide 3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ww.trackengine.c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atchThatPage (slide 3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ww.watchthatpage.c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Monitoring Web Page Changes (slide 37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ww.rba.co.uk/sources/monitor.ht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Google News (slide 39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news.google.c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HubMed (slide 4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ww.hubmed.org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DGAR Index (slide 42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www.edgarindex.com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Wikis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What I Know I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Group of people or communit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lf-correcting theo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nyone in the group may edit another’s work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erver software enables edits via browse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Example: Wikipedi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RSS News Feeds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 summaries created for syndication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RSS (Really Simple Syndication)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Sub-set (or simplified form) of XML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Display formats vary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adlines onl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eadline and summary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Full-text conten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381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Displaying the Feeds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46483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Reader required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AKA </a:t>
            </a:r>
            <a:r>
              <a:rPr b="0" i="1" lang="en-US" sz="2400" spc="-1" strike="noStrike">
                <a:solidFill>
                  <a:srgbClr val="ffffff"/>
                </a:solidFill>
                <a:latin typeface="Verdana"/>
              </a:rPr>
              <a:t>aggregator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Software-based (NewzCrawler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Web-based (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Verdana"/>
                <a:hlinkClick r:id="rId2"/>
              </a:rPr>
              <a:t>Bloglines</a:t>
            </a: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, My Yahoo)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Browser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Latest Opera, Firefox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Verdana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IE7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4729320" y="1066680"/>
            <a:ext cx="4109760" cy="5029200"/>
            <a:chOff x="4729320" y="1066680"/>
            <a:chExt cx="4109760" cy="5029200"/>
          </a:xfrm>
        </p:grpSpPr>
        <p:pic>
          <p:nvPicPr>
            <p:cNvPr id="67" name="" descr=""/>
            <p:cNvPicPr/>
            <p:nvPr/>
          </p:nvPicPr>
          <p:blipFill>
            <a:blip r:embed="rId3"/>
            <a:stretch/>
          </p:blipFill>
          <p:spPr>
            <a:xfrm>
              <a:off x="4729320" y="1066680"/>
              <a:ext cx="4109760" cy="502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 txBox="1"/>
            <p:nvPr/>
          </p:nvSpPr>
          <p:spPr>
            <a:xfrm>
              <a:off x="4729320" y="1066680"/>
              <a:ext cx="4109760" cy="5029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00"/>
                </a:spcBef>
                <a:buClr>
                  <a:srgbClr val="ffffff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4:21:44Z</dcterms:created>
  <dc:creator>Genie Tyburski</dc:creator>
  <dc:description/>
  <dc:language>en-US</dc:language>
  <cp:lastModifiedBy>Genie Tyburski</cp:lastModifiedBy>
  <cp:lastPrinted>2006-02-27T18:23:41Z</cp:lastPrinted>
  <dcterms:modified xsi:type="dcterms:W3CDTF">2006-03-07T14:46:17Z</dcterms:modified>
  <cp:revision>352</cp:revision>
  <dc:subject/>
  <dc:title>Tracking and Delivering Current Information</dc:title>
</cp:coreProperties>
</file>